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519-94D3-4B7E-8A6D-EC300200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676-E9B8-4837-BFFB-025A2DA9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FF4-4A46-4594-88DB-D5517D2C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824-02D5-4AE5-A45F-3E0B91A2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FF1-2853-4C81-B6AC-FBC6D7D7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F1C-ECF8-46A1-9039-E362DA63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9C7-454F-4881-AC0B-EF757C0F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5DB-36C8-4771-B1B2-C0CE38AE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4A0-09D2-4E44-A721-239DA5AF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4F0-9F1B-40A9-8CC6-004D304E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09D-71FC-49E6-81CE-BE98C8A9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7C0-1A54-42B7-BC89-FA2A3F84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FA58-37A0-4141-AD3A-11CB954E0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eb.mit.edu/invent/iow/cooper.html" TargetMode="External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457200" cy="44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380880"/>
            <a:ext cx="73152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ll-O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4800600"/>
            <a:ext cx="2971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olas 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7/2011 9:52:04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3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3244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 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ser Bla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8-Dec-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14600" y="4952880"/>
            <a:ext cx="1981080" cy="147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449568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Peter Co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Cooper"/>
          <p:cNvPicPr/>
          <p:nvPr/>
        </p:nvPicPr>
        <p:blipFill>
          <a:blip r:embed="rId2"/>
          <a:srcRect l="10005" t="6057" r="10005" b="0"/>
          <a:stretch/>
        </p:blipFill>
        <p:spPr>
          <a:xfrm>
            <a:off x="304920" y="685800"/>
            <a:ext cx="3886200" cy="47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254560"/>
            <a:ext cx="289548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ll-O, December 1, 2011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oope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ter Cooper he Patented Jell-O in 184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10800000">
            <a:off x="5486400" y="6490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rcRect l="509" t="24865" r="17070" b="7633"/>
          <a:stretch/>
        </p:blipFill>
        <p:spPr>
          <a:xfrm>
            <a:off x="4191120" y="304920"/>
            <a:ext cx="5181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ed in 1845 by Peter Coo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patented it ,but he didn’t commercializ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old the Patent to Pearl Wait who developed fruit versions of gela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wife came up with the name Jell-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ll-O  was sold once more to Francis Woodward in 1897,and he heavily commercialized Jell-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06 Jell-O reached sales of one million doll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6781680"/>
          <a:ext cx="162000" cy="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781680"/>
                    <a:ext cx="1620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 txBox="1"/>
          <p:nvPr/>
        </p:nvSpPr>
        <p:spPr>
          <a:xfrm>
            <a:off x="0" y="0"/>
            <a:ext cx="914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Invention: Jell-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495680" y="1523880"/>
            <a:ext cx="39546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oper was born in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 was born on February 12, 17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 grew up in Peekskill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oper mastered skills in mason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 helped build the first steam powered locomo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 was known for a variety of i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ter Cooper died on April 4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, 188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14400"/>
            <a:ext cx="723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Inventor: Peter Cooper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rcRect l="0" t="26610" r="20977" b="0"/>
          <a:stretch/>
        </p:blipFill>
        <p:spPr>
          <a:xfrm>
            <a:off x="7086600" y="152388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8Z</dcterms:created>
  <dc:creator>install</dc:creator>
  <dc:description/>
  <dc:language>en-US</dc:language>
  <cp:lastModifiedBy>install</cp:lastModifiedBy>
  <dcterms:modified xsi:type="dcterms:W3CDTF">2011-12-16T16:41:14Z</dcterms:modified>
  <cp:revision>11</cp:revision>
  <dc:subject/>
  <dc:title>Slide 1</dc:title>
</cp:coreProperties>
</file>